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F8A-8961-457B-B12B-E9B9DF12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A0A-4216-43C3-96B6-485FEB81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2F8F-EBB2-4AB7-A6A9-E7EF16DA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CAB-0134-4D78-9DFA-1F954161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2257-3233-4BE6-8006-61E24C6A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299-A52B-4D72-A72E-DADEACA7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625-898B-4B6D-80A7-5D704A7D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EAA-E052-44FA-8E2B-AD0D0490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7D0-1588-4CC8-BBBC-51A19701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D20-7A9E-4EEB-B302-3F9903C4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831F-596C-4631-BF9E-AE9C21FD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A909-5E4C-478A-AF8D-222B50FE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FC68-9263-48ED-88AA-AEA23A71C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uggestions for international school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enetic d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pecies d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cosystem d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History of biodiversity /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Worth of biodivers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colog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conom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Threats of biodivers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Climate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Invasive sp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Protection of biodivers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Con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parison /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tive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rtr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conomic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anio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cc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vasive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15001" t="19500" r="11473" b="10459"/>
          <a:stretch/>
        </p:blipFill>
        <p:spPr>
          <a:xfrm>
            <a:off x="0" y="549360"/>
            <a:ext cx="91440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10:48:45Z</dcterms:created>
  <dc:creator>Bottzeck</dc:creator>
  <dc:description/>
  <dc:language>en-US</dc:language>
  <cp:lastModifiedBy>Bottzeck</cp:lastModifiedBy>
  <dcterms:modified xsi:type="dcterms:W3CDTF">2008-06-01T12:09:14Z</dcterms:modified>
  <cp:revision>2</cp:revision>
  <dc:subject/>
  <dc:title>Biodiversity</dc:title>
</cp:coreProperties>
</file>